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E8EF-7C0B-420C-95C7-4A037D2FA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A02-9978-4AB1-A428-E98BD1CC7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rse resolution – who, short vs. of what they propose (primary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other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157-415A-4892-8095-2A5F156F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BE3-A12C-4677-ABE3-018ABC2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66D-89F1-4FC5-96D3-C9AE231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881-E32B-4714-908D-1792566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DEC-F737-438F-93F9-9A3B11D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DAA-C534-442A-B319-A9464159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04A-6695-413B-B1C0-4B2CEE1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3FF-6BEA-4EE9-9D13-7A71888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BE3-090A-446A-A840-4E2A783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764-C414-4EE5-96EC-F5275D8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F20-2952-436C-BE8A-B2D7153E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CD7-4D0D-4754-B8DF-244F2DD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709-326E-4BAC-B8BA-6F9590AAE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5693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IP-2 Kickoff Workshop</a:t>
            </a:r>
            <a:br>
              <a:rPr sz="3200"/>
            </a:br>
            <a:br>
              <a:rPr sz="3200"/>
            </a:br>
            <a:r>
              <a:rPr b="1" lang="en-GB" sz="4000" spc="-1" strike="noStrike">
                <a:solidFill>
                  <a:srgbClr val="005faa"/>
                </a:solidFill>
                <a:latin typeface="Arial"/>
              </a:rPr>
              <a:t>Air Quality and Health Scenario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860280"/>
            <a:ext cx="640080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fan Falke, Rudy Husar, Frank Lindsay, David McC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OSS AIP-2 Kick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-26 Sept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1650960"/>
            <a:ext cx="8800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 of Intercontinental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Quality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to the Health Community &amp;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Actors: Data Providers, Analysts, IT, AQ 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14880" y="4091040"/>
            <a:ext cx="4029120" cy="276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2960" y="510696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cal Processing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0840" y="837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rimary Participant Responses to AQ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5765400"/>
            <a:ext cx="88394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IESIN, Compusult, ESA, ESRI, GOES-R and GMU, INCOSE, NASA World Wind, NOAA NCDC GOSIC, NOAA SNA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41520" y="1739880"/>
          <a:ext cx="7860960" cy="3800520"/>
        </p:xfrm>
        <a:graphic>
          <a:graphicData uri="http://schemas.openxmlformats.org/drawingml/2006/table">
            <a:tbl>
              <a:tblPr/>
              <a:tblGrid>
                <a:gridCol w="1238040"/>
                <a:gridCol w="1181160"/>
                <a:gridCol w="939960"/>
                <a:gridCol w="1104840"/>
                <a:gridCol w="1168200"/>
                <a:gridCol w="1041480"/>
                <a:gridCol w="11872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/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/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P AQ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4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rop Grum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is Anticipated?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205704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AIP Participants represent diverse group with multiple legitimate persp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s: IT System Users, Data Providers, Funding Agencies, Developers,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 Scenario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, standardized AQ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o GCI: Community Catalog,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scenario which can integrate the offerings using GCI-compatible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9-23T18:32:39Z</dcterms:modified>
  <cp:revision>237</cp:revision>
  <dc:subject/>
  <dc:title>Update on OGC involvement in GEOSS</dc:title>
</cp:coreProperties>
</file>